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03D7A-4392-4005-8DCC-A33987C8A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5F0A4-FF27-4ADF-873E-1D8E014DC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1FFE9-FA10-4C05-A646-23492135F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D6973-85BE-49CD-B3D0-591C3515D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7AEDC-8F65-4EB5-9823-03EBF1FD2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FB498-E336-4A54-8691-081BB6582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811F4-2161-4F3A-9F71-28742F20E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ACB93-5A6B-4E88-904A-4D43BADB4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F0EB4-48C0-481D-9469-1FDAE46C3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1AFB0-77B5-4F12-AD24-E547363E8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89EB8-8A38-4626-8537-03EAC9452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68F0C-C152-4F53-A4B5-365CBA377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9B4B-DE28-4AA6-8C17-E37E00F6760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2"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5"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9.N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bazi zu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8.Zenb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un zu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k?</a:t>
              </a:r>
              <a:r>
                <a:rPr b="0" lang="es-E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7.Jazarp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ta halako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ondorio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nora ih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gin zuten?</a:t>
              </a:r>
              <a:r>
                <a:rPr b="0" lang="es-E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6.Zein iz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zen  emakume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papera gerr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5.Gerraren ondorioak</a:t>
              </a:r>
              <a:endParaRPr b="0" lang="en-US" sz="20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4.Nortzuk borrokat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 </a:t>
              </a:r>
              <a:r>
                <a:rPr b="1" lang="es-ES" sz="1800" spc="-1" strike="noStrike">
                  <a:solidFill>
                    <a:srgbClr val="000000"/>
                  </a:solidFill>
                  <a:latin typeface="Arial"/>
                  <a:ea typeface="ＭＳ Ｐゴシック"/>
                </a:rPr>
                <a:t>zuten?</a:t>
              </a:r>
              <a:endParaRPr b="0" lang="en-US" sz="18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3.Tal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bakoitz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r al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politik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uden?</a:t>
              </a: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2.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1.Z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da ger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zibil bat?</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64"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0"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2" name="" descr=""/>
          <p:cNvPicPr/>
          <p:nvPr/>
        </p:nvPicPr>
        <p:blipFill>
          <a:blip r:embed="rId1"/>
          <a:stretch/>
        </p:blipFill>
        <p:spPr>
          <a:xfrm>
            <a:off x="250920" y="2060640"/>
            <a:ext cx="3457440" cy="1900080"/>
          </a:xfrm>
          <a:prstGeom prst="rect">
            <a:avLst/>
          </a:prstGeom>
          <a:ln w="0">
            <a:noFill/>
          </a:ln>
        </p:spPr>
      </p:pic>
      <p:sp>
        <p:nvSpPr>
          <p:cNvPr id="7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74" name="" descr=""/>
          <p:cNvPicPr/>
          <p:nvPr/>
        </p:nvPicPr>
        <p:blipFill>
          <a:blip r:embed="rId2"/>
          <a:stretch/>
        </p:blipFill>
        <p:spPr>
          <a:xfrm>
            <a:off x="171360" y="4245120"/>
            <a:ext cx="3176640" cy="2117520"/>
          </a:xfrm>
          <a:prstGeom prst="rect">
            <a:avLst/>
          </a:prstGeom>
          <a:ln w="0">
            <a:noFill/>
          </a:ln>
        </p:spPr>
      </p:pic>
      <p:sp>
        <p:nvSpPr>
          <p:cNvPr id="7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2421000"/>
            <a:ext cx="9144000" cy="2951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9900cc"/>
                </a:solidFill>
                <a:uFillTx/>
                <a:latin typeface="Century Gothic"/>
              </a:rPr>
              <a:t>Emakumeak:</a:t>
            </a:r>
            <a:r>
              <a:rPr b="1" lang="es-ES" sz="1800" spc="-1" strike="noStrike">
                <a:solidFill>
                  <a:srgbClr val="9900cc"/>
                </a:solidFill>
                <a:latin typeface="Century Gothic"/>
              </a:rPr>
              <a:t> Herizainan eta josketan lan egiten zuten, ere bai, diru-bilketan.</a:t>
            </a:r>
            <a:r>
              <a:rPr b="1" lang="es-ES" sz="1800" spc="-1" strike="noStrike">
                <a:solidFill>
                  <a:srgbClr val="660066"/>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makumeen papera guda zibilan ezin da ulertu lehenago ez bada ulertzen XIX eta XX.mendeetan status sozial berri bat eskatzen zuten emakumeentzat ahaztuta bait zeuden. Emakumeek ez zuten kulturan, gizartean ezta ekonomian parte hartzen gauza haiek gizonentzat bakarrik zeuden, emakumeak haien etxeetan geratu behar ziren eta lan egiten bazuten dibisio sexual eta klasista batean egiten zuten.</a:t>
            </a:r>
            <a:endParaRPr b="0" lang="en-US" sz="1800" spc="-1" strike="noStrike">
              <a:solidFill>
                <a:srgbClr val="000000"/>
              </a:solidFill>
              <a:latin typeface="Arial"/>
            </a:endParaRPr>
          </a:p>
        </p:txBody>
      </p:sp>
      <p:sp>
        <p:nvSpPr>
          <p:cNvPr id="79"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 descr=""/>
          <p:cNvPicPr/>
          <p:nvPr/>
        </p:nvPicPr>
        <p:blipFill>
          <a:blip r:embed="rId2"/>
          <a:stretch/>
        </p:blipFill>
        <p:spPr>
          <a:xfrm>
            <a:off x="0" y="609300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24T12:31:08Z</dcterms:modified>
  <cp:revision>24</cp:revision>
  <dc:subject/>
  <dc:title>Diapositiva 1</dc:title>
</cp:coreProperties>
</file>